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F0D4-4D88-4C33-8884-523E3C55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A6C-A54F-4C43-9C90-44F43074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8AE-37A6-4B6C-B8EF-36D3C14E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409-0CC6-47B8-AB77-88EA6904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8373-548E-4C90-B22B-4C5D20EB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CCB8-CD92-4C25-B1DF-70E5F243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92C0-479E-4478-9F9C-D32B2012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BEC4-D715-494E-B4BD-3B3CDB44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64F6-4954-4A57-9248-05792FCC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A51E-0967-4079-8659-8CE53785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7CA6-C46A-4EDE-A3F6-230E44C8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F24-884F-47C1-9C98-D45148EF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A15A-83B6-4A8D-BD8D-AE8B3405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89BA-F8AB-441B-A9A2-C28E3166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6EF3-3891-4FB6-A2BE-BD3A4CC7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E014-09C6-4AB8-AF81-8D26537F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51C4-5AD1-4F92-95DD-CB69E103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E1A-9533-41C9-B658-2163178B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932-7126-4CD7-8CBE-CD3674B6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1A1-F04D-403B-8027-FB245962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4D2-6C25-4D33-B119-7117492B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166-5D02-4FB2-B5BD-8E8EE8CE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8E4-F36A-4292-B3F5-85477DFF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F0B-198D-44EB-AAF3-70C5EF04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A795-9521-4BB8-A632-0B2D582EF6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2BBD-55BF-491E-AEDC-CAB872DFF0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СПЛАТИВОСТ ИНВЕСТИЦИОНИХ УЛАГАЊ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PI = The Machinery and Allied Product Institute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ључно пит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Када треба заменити основно средство које је у употреби неким новим бољ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Треба минимизирати суму оперативне инфериорности постојећег средства у односу на трошкове које би изазвала нова инвестиц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а протоком времена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инфериорност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опреме у употреб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се стално повећав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у односу на неку бољу опрему која се тренутно могла набавити на тржиш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ва метода дај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одговор на питањ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да ли опрему А треба заменити опремом Б и да ли је то исплати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же с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користит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приликом одлука о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аутоматизациј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унапређењу процес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 основи метода је приступ да се приликом одлучивања о замен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занемаруј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већ настал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инвестициони трошков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 први план се стављају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будући трошков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бог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брзих технолошких промен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опција замена опреме се разматра 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пре краја њиховог физиког века трајањ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Важно питањ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шта је то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најбоље ново основно средство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које би се могло набавити на тржиш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ва присту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514080">
              <a:spcBef>
                <a:spcPts val="700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стојећа понуда на тржиш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514080">
              <a:spcBef>
                <a:spcPts val="700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Будућа (очекивана) понуда на тржиш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ешење дил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514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д 2. важи само ако је значајно боље него под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уштина методе је да се бира измеђ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Већих инвестиционих трошков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нижег степена несавршеност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Нижих инвестиционих трошков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вишег степена несавршеност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Циљ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ј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минимизирати суму оперативне инфериорност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постојеће опреме и трошкова изазваних набавком нове опр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 утврђивање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оперативне инфериорност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потребно је утврдити 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оперативне трошков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ошкови материј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ошкови одржа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ректни трошкови за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убици због застоја у р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лати и помоћни а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убици због шкарта на материј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ошкови интерног транс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убици у квалитету произ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злике у приход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трошак погонске енер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иликом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прорачуна оперативне инфериорност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потребно је зна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овољно је узети само податке за наредну год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еђу трошковима нема ни амортизације ни камата које су елементи инвестиционих улаг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перативна инфериорност старог строја добија се одузимањем оперативних предности старе опреме од од предности нове опр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4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23T04:46:30Z</dcterms:modified>
  <cp:revision>156</cp:revision>
  <dc:subject/>
  <dc:title>Soft and Hard Skills Development: A Current Situation in Serbian Companies</dc:title>
</cp:coreProperties>
</file>